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9B2E-DA18-403E-A06C-79583F9E9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92A0-B4D6-40DB-9B64-A29C15347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D8E6-619F-4863-895B-4A961C436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B3B7-80ED-46BA-89B8-429FBB2FE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1918-83D4-4A43-AE0A-D00C1405F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2A32-281A-4960-9610-06843A0CD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D415-C032-48EC-8349-A5E11A213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F750-7F3A-4FEF-BF08-38F5DE0C2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16CD-3EFA-4242-92B5-7017B69AB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A4AE-61E8-4A2D-A991-291D3CBC2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4CF7-B1E7-4D0D-9705-A735BE70E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6C53-2D3B-4F54-B4AA-52AF35664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40373-7D38-43AD-8059-39F6A6DD5F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50states.com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enchantedlearning.com/usa/states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fermi.jhuapl.edu/states/maps1/tn.gif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postcardsfrom.com/t1/arcin.html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781680" y="5029200"/>
            <a:ext cx="22100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tthew Alejand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-17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uter 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828800" y="1676520"/>
            <a:ext cx="396252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06b8dc"/>
                    </a:gs>
                    <a:gs pos="100000">
                      <a:srgbClr val="0000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Bauhaus 93"/>
              </a:rPr>
              <a:t>TENNESSEE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06b8dc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Bauhaus 93"/>
              <a:ea typeface="Bauhaus 93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58672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17680" y="6132600"/>
            <a:ext cx="4359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7880" y="6284880"/>
            <a:ext cx="607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cky top song  I got this from the Fifty states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Tenness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50states.com/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-25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-5342400"/>
            <a:ext cx="7596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151920"/>
            <a:ext cx="9144000" cy="6705720"/>
          </a:xfrm>
          <a:prstGeom prst="rect">
            <a:avLst/>
          </a:prstGeom>
          <a:gradFill rotWithShape="0">
            <a:gsLst>
              <a:gs pos="0">
                <a:srgbClr val="00dfda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ness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shvi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n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17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riculture and comme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cking bi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cky 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ived from an anglicized spelling of a Cherokee riv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b8dc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19680" cy="2095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3520" y="2133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133720"/>
            <a:ext cx="7696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2133720"/>
            <a:ext cx="4587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map about Tennesse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map describes  the capital ,cities ,state, mountains , state boundary , water 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ional par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00" y="5715000"/>
            <a:ext cx="721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got this picture from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EnchantedLearning.com/usa/states/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-25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673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000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36440" y="3276720"/>
            <a:ext cx="9007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12408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fermi.jhuapl.edu/states/maps1/tn.gif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map shows the degrees and Longitude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-25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All images Copyright © 1997 - 2000 WriteLine. All Rights Reserved. Nashville Capitol"/>
          <p:cNvPicPr/>
          <p:nvPr/>
        </p:nvPicPr>
        <p:blipFill>
          <a:blip r:embed="rId1"/>
          <a:stretch/>
        </p:blipFill>
        <p:spPr>
          <a:xfrm>
            <a:off x="0" y="0"/>
            <a:ext cx="9144000" cy="47242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4800600"/>
            <a:ext cx="899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 picture of Nashville the capital of Tennessee I got this picture fr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postcardsfrom.com/t1/arcin.html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        10-25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7T13:12:17Z</dcterms:created>
  <dc:creator>install</dc:creator>
  <dc:description/>
  <dc:language>en-US</dc:language>
  <cp:lastModifiedBy>install</cp:lastModifiedBy>
  <dcterms:modified xsi:type="dcterms:W3CDTF">2011-10-26T13:54:56Z</dcterms:modified>
  <cp:revision>14</cp:revision>
  <dc:subject/>
  <dc:title>Slide 1</dc:title>
</cp:coreProperties>
</file>